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5C3E-E073-42CB-A6B3-9A5C32E5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In many countries, such as the United States, Japan, and much of Europ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the growth rate has slow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These countries have completed the </a:t>
            </a:r>
            <a:r>
              <a:rPr b="1" i="1" lang="en-US" sz="1200" spc="-1" strike="noStrike">
                <a:solidFill>
                  <a:srgbClr val="008000"/>
                </a:solidFill>
                <a:latin typeface="Calibri"/>
              </a:rPr>
              <a:t>demographic transition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a term used to describe a dramatic change in birth and death rates. 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As a society becomes more modern, there is a higher educational level.  As the standard of living increases, families hav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fewer children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The demographic transition is said to be complete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the birthrate falls to meet the death rate, and the population stops gr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BA01-5868-4A54-ABAA-68042130507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6541-51EF-4792-B6C3-64B3B4E8237A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CD05-7522-4242-BBD7-8DA51102E0FB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7E80-8C88-4CBE-9CBC-46347450F420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E7C-7E19-4CD4-9A20-ABF1AA61DF9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88BA-C9BF-4F7D-87A9-1BF596A019FC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9ECB-B2E8-4A42-BBDF-AE2E8B8CF1D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count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group is the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group is the small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is population growing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539-3AEE-4840-8B4C-2BB3FFAF129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3DD8-121F-4090-B2BE-BE98FBD0DC8A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41CE-0D60-46E3-ADC4-0B32DC1B1D4D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D41-37BC-435A-AA5E-42620401B91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AA59-4264-4D5E-812B-9FB4C968736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91B-68B4-40E6-A32A-D3DA0F578DA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EEE-FD42-4653-99A2-96687D6F5BD2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6BC-5B33-4CF1-8038-EF577ADF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F41-514F-4176-84E3-2F7B5980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8EF-C04E-45C3-8F9B-6842B4D1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97F-7EFF-4406-A4A3-88E51C40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75F6-B9A0-4163-919B-D358A97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CF1A-754D-4776-ABD3-827E9A4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4A5-864C-4951-8C09-FAC5ACA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BF7D-C492-4780-A00B-A0F3193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FEC-55E5-4A6A-BE7F-4F00AE4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7C0C-93D6-491D-B31F-F6AF55AA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4AB-5D5B-4CB3-B20E-DE7CBAF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AE5-476E-4CAE-AFE2-98E32AF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499F-7DEF-490A-8318-889FD9E3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78C-CBDE-48EB-AFFF-4A759E9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8972-804C-4471-BCBA-762C4E93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DF2B-13BD-4A6F-BE00-111B98B2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8DB-4E96-466E-BE25-BB7BD791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53FE-EB3D-4F6B-A73F-87624FEC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03C5-E3EE-46A6-A56A-F35A6F96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09B3-4DB1-40BC-AB1E-31D9E62B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300D-7C7C-4F28-A535-94E826B1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BFB3-D42F-43C9-AF3C-5144D94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7AD-DD83-48B3-ACBB-1062285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856B-795E-4D0E-AC9C-1925C89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EA12-8135-45FA-BE06-C7819C8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DDFE-F5F1-44A9-BD38-64C61E6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904F6-0D21-45BE-B05D-86B5211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2F88-A371-4C85-8D8E-F8C672D0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1F3B-C95B-4702-BE0B-1570F3EC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A256-3BEB-47AC-98C9-561D0F75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401F-434B-4AB8-9494-6CA759F9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5C669-E77A-4656-9C5F-4F038B0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B25F-D891-4171-893E-FC45A70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75F-C0C2-40B4-86DD-F1EFF746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4586-617F-4B8C-84B8-A2DB3CB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E14C-3AEC-486B-B21B-38FDBD6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0393-E8D6-4354-B1E4-589684F9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7477-5DB9-4A1A-9670-F292A00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9D1E-587E-4D3E-A113-2D0A96D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B3AD-0C33-4E81-B42A-88E7351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4C9D-1FD8-462D-8782-0CE1423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A35D-E114-412E-BDCA-BBF125C0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757E-F04C-4D15-8884-B150F072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F01E-7C88-4436-80CE-37688901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2C9-BE92-4E0E-8E22-EFA5494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C1F0-F8C2-45FA-A64B-B1DC6B6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E590-9EE7-4B2C-8B5D-9162216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46BE-3EA5-46DA-B438-8D94B6A4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90B9-FA92-48C7-8D4C-6347114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248FE-E5F0-4C3F-831D-2B4DF82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1A3F-87E4-4145-8BEA-C97A703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F2D2-65AE-4CA6-B1F5-6C8538A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4420-AC6F-4027-A56F-783BE73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D5AE0-3319-4E9D-A9B0-A445A31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0D5A-4810-4E3D-87BC-2CCA6F6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AEC-4FCC-4C20-A4FE-3C67720F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E502-B4E8-42CE-89D7-0501E8AD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A1D3-0C4E-40BB-BE59-EC08515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DB99-3A4B-4319-AE15-2302BCB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FCF2-4C9A-45AD-9BE8-F47B280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56E8-DF53-45DE-B992-F3EE915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9C20-1D80-4268-8FDD-07DE47C4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5600-7BC7-4111-BA40-20F666D6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9D2DD-C58E-438C-A769-F93474B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03D8-F268-4BB9-90CA-3E202384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D950B-D6EC-42F4-B04C-6BA28BB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02E-6A2C-4642-8A2E-0170E83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3C42-7C39-48DB-B960-5504D23E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EEC3-597F-4534-9B53-871D9296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9E94-2340-46C7-BE7A-EAB30E52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059F-41DC-4053-89B7-C884CF7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4A52-A476-4FA3-B62D-C57B2BE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5962-C5F6-4FB4-AD60-F606A8B7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05212-D223-48AA-91D5-798E178F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ED3F2-74D3-4ED6-999C-2D39A8F8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4455-431B-4652-BEE9-57E9E61C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4B44-2507-4719-AFA7-B01B090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38D-BDD1-4DAA-B2B8-7565E49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126E-D6C0-4FAA-B3EE-D582ECC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E0D9-FD49-4348-ACFB-C5FB177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F4ED1-FC06-42A3-BEFF-AA9196DC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0999-316B-4DF8-851A-3B672114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F221-F9B9-4041-B2CA-B34C4231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DE588-42D9-408B-908B-624506B9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630F-0B4A-4BDC-A7D4-94E38AB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AFC21-2884-4CAE-A58F-77CF225A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E6EC-D60D-4DCB-9787-5DC412E1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6305-1D78-491E-B2BD-1A3104C7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7CF-68E7-4640-BDFC-D66975A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53D0C-9802-4496-83D6-2FB9A1C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0333E-5666-49B1-85F3-5F03D04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F867-F10B-4F72-8CCB-F7B1567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AB9D-6EA5-4A6F-B653-8438742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6676-FFB2-4EC6-B1A0-85AD555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10B17-9272-43F9-A502-4E941B72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F3CF-DAE0-49FA-86AE-846FACB4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4FF-8E02-47A9-9881-7B7AF95F4FB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66C-04B7-4028-9FEF-54FF14A11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F5D-2D8E-4146-A339-38AE7EBB19A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DB14-3D1F-4142-A61A-BD6589945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BE73-C805-4A6A-B826-9CC7AB11E2B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F0D4-BD08-4E28-B5D8-1F96BD4ED6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01E5-EA4E-40CF-8AF9-A21B1A1085F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D5A-F2D8-4FD4-B7D3-9861AFDF8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8A4-980E-435D-87AF-87A3AD83BBD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2AC-E12B-4EFF-9837-B0E4452636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25EE-4BDD-4A44-9DA6-C3D7C008AE0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63C-BC8E-4E8D-9BA9-683DBFA27D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338-D94C-494E-904A-A1A69EBA732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852-CAA8-4118-9725-67F2204AC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EFE-2ED6-4A8A-9628-74B787D6A01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45AF-5B93-490F-BC29-E7F018C6E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8000" y="3651120"/>
            <a:ext cx="85467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penguins.jpg"/>
          <p:cNvPicPr/>
          <p:nvPr/>
        </p:nvPicPr>
        <p:blipFill>
          <a:blip r:embed="rId2"/>
          <a:stretch/>
        </p:blipFill>
        <p:spPr>
          <a:xfrm>
            <a:off x="152280" y="152280"/>
            <a:ext cx="445140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wildflower.jpg"/>
          <p:cNvPicPr/>
          <p:nvPr/>
        </p:nvPicPr>
        <p:blipFill>
          <a:blip r:embed="rId3"/>
          <a:stretch/>
        </p:blipFill>
        <p:spPr>
          <a:xfrm>
            <a:off x="4800600" y="152280"/>
            <a:ext cx="4192560" cy="297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0" y="6550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Lucida Sans Unicode"/>
              </a:rPr>
              <a:t>© Amy Brown (Science Stuff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400px-World_population.svg.png"/>
          <p:cNvPicPr/>
          <p:nvPr/>
        </p:nvPicPr>
        <p:blipFill>
          <a:blip r:embed="rId1"/>
          <a:stretch/>
        </p:blipFill>
        <p:spPr>
          <a:xfrm>
            <a:off x="-76320" y="609480"/>
            <a:ext cx="9495000" cy="4345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3200400" y="5257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171e"/>
                </a:solidFill>
                <a:latin typeface="Lucida Sans Unicode"/>
              </a:rPr>
              <a:t>This is a map of the world's countries by total population, with darker shading indicating larger popul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762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umans 2.jpg"/>
          <p:cNvPicPr/>
          <p:nvPr/>
        </p:nvPicPr>
        <p:blipFill>
          <a:blip r:embed="rId2"/>
          <a:stretch/>
        </p:blipFill>
        <p:spPr>
          <a:xfrm>
            <a:off x="304920" y="914400"/>
            <a:ext cx="4346280" cy="2895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800600" y="76212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1d3"/>
                </a:solidFill>
                <a:latin typeface="Lucida Sans Unicode"/>
                <a:ea typeface="MS PGothic"/>
              </a:rPr>
              <a:t>The demographic transition has occurred in only a few countries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d1d3"/>
                </a:solidFill>
                <a:latin typeface="Lucida Sans Unicode"/>
                <a:ea typeface="MS PGothic"/>
              </a:rPr>
              <a:t>the United States, Japan and much of Europ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04920" y="4495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ever, most of the world population is still growing ______________.  Most of the world population is contributed to about 10 countries, with India and China in the le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3808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4a10"/>
                </a:solidFill>
                <a:latin typeface="Lucida Sans Unicode"/>
                <a:ea typeface="MS PGothic"/>
              </a:rPr>
              <a:t>exponenti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09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0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Make 3 observation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2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15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6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Age-Structure Diagram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8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474b78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growth of a population depends o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how many people make up the given population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population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age-structure diagrams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2"/>
          <p:cNvSpPr/>
          <p:nvPr/>
        </p:nvSpPr>
        <p:spPr>
          <a:xfrm>
            <a:off x="-152280" y="4800600"/>
            <a:ext cx="102106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"/>
          <p:cNvSpPr/>
          <p:nvPr/>
        </p:nvSpPr>
        <p:spPr>
          <a:xfrm>
            <a:off x="304920" y="5257800"/>
            <a:ext cx="8534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 “age-structure diagram” show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population of a country broken down by gender and age group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5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9" name="Text Box 7"/>
            <p:cNvSpPr/>
            <p:nvPr/>
          </p:nvSpPr>
          <p:spPr>
            <a:xfrm>
              <a:off x="2339640" y="5158080"/>
              <a:ext cx="37717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3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5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1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5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2781360" y="3981600"/>
              <a:ext cx="2819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9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1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2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3" name="Text Box 7"/>
            <p:cNvSpPr/>
            <p:nvPr/>
          </p:nvSpPr>
          <p:spPr>
            <a:xfrm>
              <a:off x="2339640" y="5158080"/>
              <a:ext cx="3771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4" name="Text Box 9"/>
            <p:cNvSpPr/>
            <p:nvPr/>
          </p:nvSpPr>
          <p:spPr>
            <a:xfrm>
              <a:off x="2781360" y="3981600"/>
              <a:ext cx="2819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5" name="Text Box 11"/>
            <p:cNvSpPr/>
            <p:nvPr/>
          </p:nvSpPr>
          <p:spPr>
            <a:xfrm>
              <a:off x="2360880" y="2014920"/>
              <a:ext cx="3854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OST-REPRODUCTIVE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C900434385.WMF"/>
          <p:cNvPicPr/>
          <p:nvPr/>
        </p:nvPicPr>
        <p:blipFill>
          <a:blip r:embed="rId1"/>
          <a:stretch/>
        </p:blipFill>
        <p:spPr>
          <a:xfrm>
            <a:off x="380880" y="2209680"/>
            <a:ext cx="2946600" cy="2675160"/>
          </a:xfrm>
          <a:prstGeom prst="rect">
            <a:avLst/>
          </a:prstGeom>
          <a:ln w="0">
            <a:noFill/>
          </a:ln>
        </p:spPr>
      </p:pic>
      <p:grpSp>
        <p:nvGrpSpPr>
          <p:cNvPr id="382" name="Rectangle 2"/>
          <p:cNvGrpSpPr/>
          <p:nvPr/>
        </p:nvGrpSpPr>
        <p:grpSpPr>
          <a:xfrm>
            <a:off x="542880" y="244440"/>
            <a:ext cx="7935840" cy="1279440"/>
            <a:chOff x="542880" y="244440"/>
            <a:chExt cx="7935840" cy="1279440"/>
          </a:xfrm>
        </p:grpSpPr>
        <p:pic>
          <p:nvPicPr>
            <p:cNvPr id="383" name="Rectangle 2" descr=""/>
            <p:cNvPicPr/>
            <p:nvPr/>
          </p:nvPicPr>
          <p:blipFill>
            <a:blip r:embed="rId2"/>
            <a:stretch/>
          </p:blipFill>
          <p:spPr>
            <a:xfrm>
              <a:off x="542880" y="244440"/>
              <a:ext cx="79358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24960" y="380880"/>
              <a:ext cx="78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Lucida Sans Unicode"/>
                </a:rPr>
                <a:t>Human Population Growth</a:t>
              </a:r>
              <a:r>
                <a:rPr b="0" lang="en-US" sz="4400" spc="-1" strike="noStrike">
                  <a:solidFill>
                    <a:srgbClr val="ffffff"/>
                  </a:solidFill>
                  <a:latin typeface="Lucida Sans Unicode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85" name="Rectangle 3"/>
          <p:cNvSpPr/>
          <p:nvPr/>
        </p:nvSpPr>
        <p:spPr>
          <a:xfrm>
            <a:off x="3657600" y="1523880"/>
            <a:ext cx="5105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For most of human existence, the population grew very slowl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Limiting factors that kept the human population low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Lucida Sans Unicode"/>
                <a:ea typeface="MS PGothic"/>
              </a:rPr>
              <a:t>Food avail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2.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Diseases were ramp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age structure 2.jpg"/>
          <p:cNvPicPr/>
          <p:nvPr/>
        </p:nvPicPr>
        <p:blipFill>
          <a:blip r:embed="rId1"/>
          <a:srcRect l="0" t="9529" r="0" b="0"/>
          <a:stretch/>
        </p:blipFill>
        <p:spPr>
          <a:xfrm>
            <a:off x="0" y="990720"/>
            <a:ext cx="905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age structure 2.jpg"/>
          <p:cNvPicPr/>
          <p:nvPr/>
        </p:nvPicPr>
        <p:blipFill>
          <a:blip r:embed="rId1"/>
          <a:stretch/>
        </p:blipFill>
        <p:spPr>
          <a:xfrm>
            <a:off x="0" y="533520"/>
            <a:ext cx="905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59" name="Rectangle 2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 A and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Make 3 observ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61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761000" y="914400"/>
            <a:ext cx="407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more _________ than ______ group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In each higher age group, there are fewer and fewer individua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952880" y="1303200"/>
            <a:ext cx="27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childr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7358040" y="1303200"/>
            <a:ext cx="15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old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772160" y="5181480"/>
            <a:ext cx="271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Rap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838080"/>
            <a:ext cx="4910400" cy="443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67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B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4120" y="8380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Lucida Sans Unicode"/>
              </a:rPr>
              <a:t>nearly equal numbers of individuals in each age group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TextBox 4"/>
          <p:cNvSpPr/>
          <p:nvPr/>
        </p:nvSpPr>
        <p:spPr>
          <a:xfrm>
            <a:off x="5334120" y="5030640"/>
            <a:ext cx="27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Sans Unicode"/>
              </a:rPr>
              <a:t>slow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7200" y="304920"/>
            <a:ext cx="8458200" cy="253116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About 500 years ago, the human population began to grow at a staggering rate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What factors do you think effected growth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88" name="TextBox 2"/>
          <p:cNvSpPr/>
          <p:nvPr/>
        </p:nvSpPr>
        <p:spPr>
          <a:xfrm>
            <a:off x="6094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  about this gra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humpop_2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91" name="Rectangle 3"/>
          <p:cNvSpPr/>
          <p:nvPr/>
        </p:nvSpPr>
        <p:spPr>
          <a:xfrm>
            <a:off x="4957920" y="838080"/>
            <a:ext cx="3881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Agriculture and indust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Food is availab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Goods can be shippe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Improved sanit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buClr>
                <a:srgbClr val="8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Lucida Sans Unicode"/>
              </a:rPr>
              <a:t>Death rate dropped while birth rate increas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838080"/>
            <a:ext cx="8686800" cy="210492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What type of growth have humans experienced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arrying.png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366408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37782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83544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nno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228600" y="3886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questions to be answered are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hen will we reach the limit of these resources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How large will the population get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ill the planet be able to support this huge human populat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191120" y="228600"/>
            <a:ext cx="4724280" cy="2775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uman population grows exponentiall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MC900078708.WMF"/>
          <p:cNvPicPr/>
          <p:nvPr/>
        </p:nvPicPr>
        <p:blipFill>
          <a:blip r:embed="rId1"/>
          <a:stretch/>
        </p:blipFill>
        <p:spPr>
          <a:xfrm>
            <a:off x="0" y="2438280"/>
            <a:ext cx="4551480" cy="42674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152280" y="304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emography is the scientific study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67b"/>
                </a:solidFill>
                <a:latin typeface="Lucida Sans Unicode"/>
              </a:rPr>
              <a:t>of human population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876920" y="1600200"/>
            <a:ext cx="4114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171e"/>
                </a:solidFill>
                <a:latin typeface="Lucida Sans Unicode"/>
              </a:rPr>
              <a:t>Some countries today have a much higher growth rate than other countries.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171e"/>
                </a:solidFill>
                <a:latin typeface="Lucida Sans Unicode"/>
              </a:rPr>
              <a:t>Birthrates, death rates, and the age structure of a population help predict why some countries have a higher growth rate than other countri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21:42:46Z</dcterms:created>
  <dc:creator>Roman-Wensing, Kayla</dc:creator>
  <dc:description/>
  <cp:keywords/>
  <dc:language>en-US</dc:language>
  <cp:lastModifiedBy>Roman-Wensing, Kayla</cp:lastModifiedBy>
  <dcterms:modified xsi:type="dcterms:W3CDTF">2018-05-06T19:56:48Z</dcterms:modified>
  <cp:revision>149</cp:revision>
  <dc:subject/>
  <dc:title>Population 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600619991</vt:lpwstr>
  </property>
</Properties>
</file>